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B098-3C51-4790-9FB2-C21A9A522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F641-EC7E-4959-9B5E-0AF3EA8F7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77C9-5078-489E-A0DB-931691D70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FBB4-D9EE-4F8C-9358-97CAB733F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C238DF-498B-497D-8A64-C5D55FAB3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30893B-E5D6-48A3-9F63-30193AB5C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04C21E-A2D0-41F1-92E1-478965E36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CF3522-5B28-4007-A330-6081B22FF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DE2953-33A6-4C1E-B4AF-B1D7CD9CB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EE5E35-5E7E-4294-9008-CBB611858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F94CAD-5C34-4B3E-A93B-297AF430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F701-BE4E-47EE-9A84-81C2AD2D6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76BF2A-32EC-41A7-A6F7-563C7042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F701AC-14A6-4050-A5BB-9DB26351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D065EE-A7BD-4327-84F7-7097D44F6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7AF85B-EFC5-451A-AC77-2B68911A9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02B941-44CB-46DE-8BD4-548785365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0979-813B-4435-9EF8-BCC596A7C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2AE1-CB2B-4220-9897-3EE45EE41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7060-EA09-4AB4-A029-CE58E728F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2996-5175-4FD2-92B6-B8431831E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D05A-0F6B-49DB-B95A-2852C401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9EDE-C1D3-401B-9409-8B2F2F50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A457-6335-458F-95D7-CD220953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CD85F-2164-480B-99B7-0A4107A1F7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FA9D9-D8D5-4F82-ADEA-60735DE5B6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3. Spelling Zon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0456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cus: Spelling and self assess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elling Assessment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actice ten Assessment words from the passage that you read in the RZ. You hear the word, hear it in a sentence, and then you spell it out. If you misspell the word, it becomes one of your study word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. Spelling Clinic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learn words that you did not spell correctly. Once you spell everything correctly, you will move on to the Success Zon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. Spelling Challeng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must spell a word and if it is correct, you move onto the next word. You do this until you master the lis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. Proofreading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check 3 sentences and proofread for spelling mistak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. SZ Progress repo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eck to see your overall progress in the SZ. It also tells you the number of words master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4. Success Zone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NAL segment of the computer software topic CD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crepancy  Passag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read 2 or 3 versions of the passage from the RZ and choose the one that most accurately summarizes the original passag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 Context Passag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ad passages that have some words missing. You fill in the blanks with the correct vocabulary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 Final Recording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make a final recording of the passage, do a self-check, and then, if not satisfied, a re-recording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5. Wrap-U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CUS: Recap skills, strategies, and topics that we worked on throughout clas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CUSS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ES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RITTEN ASSIGN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ERY STUDENT IS EXPECTED TO PARTICIPATE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3T12:18:33Z</dcterms:created>
  <dc:creator> </dc:creator>
  <dc:description/>
  <dc:language>en-US</dc:language>
  <cp:lastModifiedBy> </cp:lastModifiedBy>
  <dcterms:modified xsi:type="dcterms:W3CDTF">2007-09-13T15:42:02Z</dcterms:modified>
  <cp:revision>3</cp:revision>
  <dc:subject/>
  <dc:title>3. Spelling Zone</dc:title>
</cp:coreProperties>
</file>